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C9B-ECFC-4E4D-B31D-A1EE74FD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D89-220C-4D75-8FE0-6481AAD1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907-13D2-4D90-9D0D-AFAA62BC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A3B-D09C-45ED-BC4B-51988FBB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84E-AC81-497A-8A50-8C68DE6D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3E9-6B1D-4B5A-B18E-28CF2BF0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5B5-B1F1-4EDB-93B0-8EB83ABA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5DC-4A79-402B-84C3-E556A3D8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B92-25B7-456F-B182-74113679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9AB-737E-40A7-8A5E-B46C864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7A9-7530-4232-8634-D483AEE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03E-47C7-4201-8564-542ABD0B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E830-C2BE-4BDB-8611-C1278B02C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THE SPACE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Broadway"/>
              </a:rPr>
              <a:t>BY: ANGELICA MAGUIRE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ILLATION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Text Placeholder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5 FACTS ABOUT THE SUN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K:\2010-2011\SCIENCE\Picture1.gif"/>
          <p:cNvPicPr/>
          <p:nvPr/>
        </p:nvPicPr>
        <p:blipFill>
          <a:blip r:embed="rId1"/>
          <a:stretch/>
        </p:blipFill>
        <p:spPr>
          <a:xfrm>
            <a:off x="1600200" y="114300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THE MOON MOV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THE MOON.jpg"/>
          <p:cNvPicPr/>
          <p:nvPr/>
        </p:nvPicPr>
        <p:blipFill>
          <a:blip r:embed="rId1"/>
          <a:stretch/>
        </p:blipFill>
        <p:spPr>
          <a:xfrm>
            <a:off x="1295280" y="1295280"/>
            <a:ext cx="6186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oadway"/>
              </a:rPr>
              <a:t>SOLAR ECLIPSE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Text Placeholder 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782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Y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Text Placeholder 2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24816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TROIDS + COMETS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 Placeholder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1484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ETS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Text Placeholder 2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6294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GHT YEAR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ext Placeholder 2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-SIZED STAR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ext Placeholder 2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26256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5:26:15Z</dcterms:created>
  <dc:creator>Owner</dc:creator>
  <dc:description/>
  <dc:language>en-US</dc:language>
  <cp:lastModifiedBy>Franklin Township School</cp:lastModifiedBy>
  <dcterms:modified xsi:type="dcterms:W3CDTF">2011-04-05T19:00:47Z</dcterms:modified>
  <cp:revision>2</cp:revision>
  <dc:subject/>
  <dc:title>THE SPACE!!!</dc:title>
</cp:coreProperties>
</file>